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831-F4AB-40F9-9858-467D0692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883-8EB0-474B-8DA3-AF4AD029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8A5-2D3C-4CB0-9328-E69AE36B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6AF-9874-404B-9524-18D1BFD9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523-4BC1-4FE6-91D9-0C0ACEFE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CA7-ADEC-443C-9DF6-FC0BB39B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F5C-1FAD-4168-8EF3-8F716EEA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076-D961-4B06-800A-A2E411FF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B13-4E8B-41AE-8CF9-E4B0C1C4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515-3414-4297-8620-4F580BD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6C8-5B1D-43DE-ADB9-1E7FE8B0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A1F-1309-453E-B4CD-3EEDBE6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A0E7-4B4E-4381-99FA-6FC13A094F9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6E5A-C344-447E-A67D-51E2C75D1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onlinetestpad.com/5jzoqw57466vk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programforyou.ru/block-diagram-redactor" TargetMode="External"/><Relationship Id="rId2" Type="http://schemas.openxmlformats.org/officeDocument/2006/relationships/hyperlink" Target="https://disk.yandex.ru/i/pYofIA2SGDPISQ" TargetMode="External"/><Relationship Id="rId3" Type="http://schemas.openxmlformats.org/officeDocument/2006/relationships/hyperlink" Target="https://disk.yandex.ru/i/DQtuJkoZ3dLdDw" TargetMode="External"/><Relationship Id="rId4" Type="http://schemas.openxmlformats.org/officeDocument/2006/relationships/hyperlink" Target="https://disk.yandex.ru/i/6oHGOjt72tDRWA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disk.yandex.ru/i/8IgK5u1iGZY5Ag" TargetMode="External"/><Relationship Id="rId2" Type="http://schemas.openxmlformats.org/officeDocument/2006/relationships/hyperlink" Target="https://disk.yandex.ru/i/PdYwBvWqcypx6w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rogramforyou.ru/block-diagram-redactor" TargetMode="External"/><Relationship Id="rId2" Type="http://schemas.openxmlformats.org/officeDocument/2006/relationships/hyperlink" Target="https://disk.yandex.ru/i/8bTdLhnb1jqVcg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earningapps.org/19553056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52360" y="2012760"/>
            <a:ext cx="914400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 в деятельности медицинской сестр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B908-D5B4-4248-ADFF-AEC6AA8FF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0" y="532908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информатики Саликов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700200" y="66024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АПОУ «Старооскольский медицин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55640" y="15458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йдите тест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onlinetestpad.com/5jzoqw57466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F4F6-0EA7-4480-97D9-63025D823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96" name="Google Shape;78;p12" descr=""/>
          <p:cNvPicPr/>
          <p:nvPr/>
        </p:nvPicPr>
        <p:blipFill>
          <a:blip r:embed="rId3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285840" y="2500200"/>
            <a:ext cx="8857800" cy="4357440"/>
            <a:chOff x="285840" y="2500200"/>
            <a:chExt cx="8857800" cy="4357440"/>
          </a:xfrm>
        </p:grpSpPr>
        <p:grpSp>
          <p:nvGrpSpPr>
            <p:cNvPr id="98" name="Group 10"/>
            <p:cNvGrpSpPr/>
            <p:nvPr/>
          </p:nvGrpSpPr>
          <p:grpSpPr>
            <a:xfrm>
              <a:off x="285840" y="2500200"/>
              <a:ext cx="4786200" cy="687600"/>
              <a:chOff x="285840" y="2500200"/>
              <a:chExt cx="4786200" cy="687600"/>
            </a:xfrm>
          </p:grpSpPr>
          <p:sp>
            <p:nvSpPr>
              <p:cNvPr id="99" name="AutoShape 11"/>
              <p:cNvSpPr/>
              <p:nvPr/>
            </p:nvSpPr>
            <p:spPr>
              <a:xfrm>
                <a:off x="285840" y="2500200"/>
                <a:ext cx="1928160" cy="68760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 flipH="1">
                <a:off x="2271240" y="2837520"/>
                <a:ext cx="10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3"/>
              <p:cNvSpPr/>
              <p:nvPr/>
            </p:nvSpPr>
            <p:spPr>
              <a:xfrm>
                <a:off x="3285360" y="2500200"/>
                <a:ext cx="1786680" cy="64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Начало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конец процесс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4"/>
            <p:cNvGrpSpPr/>
            <p:nvPr/>
          </p:nvGrpSpPr>
          <p:grpSpPr>
            <a:xfrm>
              <a:off x="285840" y="4704840"/>
              <a:ext cx="8857800" cy="916920"/>
              <a:chOff x="285840" y="4704840"/>
              <a:chExt cx="8857800" cy="916920"/>
            </a:xfrm>
          </p:grpSpPr>
          <p:sp>
            <p:nvSpPr>
              <p:cNvPr id="103" name="AutoShape 15"/>
              <p:cNvSpPr/>
              <p:nvPr/>
            </p:nvSpPr>
            <p:spPr>
              <a:xfrm>
                <a:off x="285840" y="4834800"/>
                <a:ext cx="1928160" cy="68760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6"/>
              <p:cNvSpPr/>
              <p:nvPr/>
            </p:nvSpPr>
            <p:spPr>
              <a:xfrm>
                <a:off x="3358080" y="4704840"/>
                <a:ext cx="578556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Последовательность коман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H="1">
                <a:off x="2332080" y="5124960"/>
                <a:ext cx="10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8"/>
            <p:cNvGrpSpPr/>
            <p:nvPr/>
          </p:nvGrpSpPr>
          <p:grpSpPr>
            <a:xfrm>
              <a:off x="462960" y="5711400"/>
              <a:ext cx="6998400" cy="1146240"/>
              <a:chOff x="462960" y="5711400"/>
              <a:chExt cx="6998400" cy="1146240"/>
            </a:xfrm>
          </p:grpSpPr>
          <p:sp>
            <p:nvSpPr>
              <p:cNvPr id="107" name="AutoShape 19"/>
              <p:cNvSpPr/>
              <p:nvPr/>
            </p:nvSpPr>
            <p:spPr>
              <a:xfrm>
                <a:off x="462960" y="5711400"/>
                <a:ext cx="1499760" cy="114624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20"/>
              <p:cNvSpPr/>
              <p:nvPr/>
            </p:nvSpPr>
            <p:spPr>
              <a:xfrm>
                <a:off x="3390120" y="5940720"/>
                <a:ext cx="4071240" cy="6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1"/>
              <p:cNvSpPr/>
              <p:nvPr/>
            </p:nvSpPr>
            <p:spPr>
              <a:xfrm flipH="1">
                <a:off x="2189520" y="6170040"/>
                <a:ext cx="128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22"/>
            <p:cNvGrpSpPr/>
            <p:nvPr/>
          </p:nvGrpSpPr>
          <p:grpSpPr>
            <a:xfrm>
              <a:off x="285840" y="3416400"/>
              <a:ext cx="8528400" cy="1150560"/>
              <a:chOff x="285840" y="3416400"/>
              <a:chExt cx="8528400" cy="1150560"/>
            </a:xfrm>
          </p:grpSpPr>
          <p:grpSp>
            <p:nvGrpSpPr>
              <p:cNvPr id="111" name="Group 23"/>
              <p:cNvGrpSpPr/>
              <p:nvPr/>
            </p:nvGrpSpPr>
            <p:grpSpPr>
              <a:xfrm>
                <a:off x="285840" y="3416400"/>
                <a:ext cx="8528400" cy="1150560"/>
                <a:chOff x="285840" y="3416400"/>
                <a:chExt cx="8528400" cy="1150560"/>
              </a:xfrm>
            </p:grpSpPr>
            <p:grpSp>
              <p:nvGrpSpPr>
                <p:cNvPr id="112" name="Group 24"/>
                <p:cNvGrpSpPr/>
                <p:nvPr/>
              </p:nvGrpSpPr>
              <p:grpSpPr>
                <a:xfrm>
                  <a:off x="285840" y="3416400"/>
                  <a:ext cx="2184480" cy="1150560"/>
                  <a:chOff x="285840" y="3416400"/>
                  <a:chExt cx="2184480" cy="1150560"/>
                </a:xfrm>
              </p:grpSpPr>
              <p:cxnSp>
                <p:nvCxnSpPr>
                  <p:cNvPr id="113" name="AutoShape 25"/>
                  <p:cNvCxnSpPr/>
                  <p:nvPr/>
                </p:nvCxnSpPr>
                <p:spPr>
                  <a:xfrm flipV="1">
                    <a:off x="1420920" y="3416400"/>
                    <a:ext cx="1080" cy="1150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14" name="AutoShape 26"/>
                  <p:cNvSpPr/>
                  <p:nvPr/>
                </p:nvSpPr>
                <p:spPr>
                  <a:xfrm>
                    <a:off x="285840" y="3703320"/>
                    <a:ext cx="2184480" cy="57312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" name="Text Box 27"/>
                <p:cNvSpPr/>
                <p:nvPr/>
              </p:nvSpPr>
              <p:spPr>
                <a:xfrm>
                  <a:off x="3653640" y="3703320"/>
                  <a:ext cx="5160600" cy="68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Блок ввода или вывода информа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16" name="AutoShape 28"/>
              <p:cNvCxnSpPr/>
              <p:nvPr/>
            </p:nvCxnSpPr>
            <p:spPr>
              <a:xfrm flipH="1">
                <a:off x="2270520" y="3989880"/>
                <a:ext cx="149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117" name="TextBox 22"/>
          <p:cNvSpPr/>
          <p:nvPr/>
        </p:nvSpPr>
        <p:spPr>
          <a:xfrm>
            <a:off x="142920" y="114300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того, чтобы сделать алгоритм более наглядным, часто использую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лок – сх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CEFE-FFFC-46C3-851E-3B0357D50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8880" y="495000"/>
            <a:ext cx="746136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лок - сх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121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523800"/>
            <a:ext cx="820908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зовые алгоритмические структур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86920" y="2047680"/>
            <a:ext cx="796284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гическая структура любого алгоритма может быть представлена комбинацией трёх базовых структу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ледование, ветвление, цик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ной особенностью базовых структур является наличие в них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го вхо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го вых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7803-76AD-44CB-B3EF-1B2DB9B65D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126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84456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инейный алгорит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(следование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следовательность действ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3341520" y="2260440"/>
            <a:ext cx="2458800" cy="4006800"/>
            <a:chOff x="3341520" y="2260440"/>
            <a:chExt cx="2458800" cy="4006800"/>
          </a:xfrm>
        </p:grpSpPr>
        <p:sp>
          <p:nvSpPr>
            <p:cNvPr id="129" name="Text Box 11"/>
            <p:cNvSpPr/>
            <p:nvPr/>
          </p:nvSpPr>
          <p:spPr>
            <a:xfrm>
              <a:off x="3365280" y="2720520"/>
              <a:ext cx="24350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Действие 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3341520" y="4062960"/>
              <a:ext cx="24350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Действие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3341520" y="5342400"/>
              <a:ext cx="24350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Действие 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>
              <a:off x="4493160" y="226044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493160" y="3400560"/>
              <a:ext cx="0" cy="67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4521960" y="4743000"/>
              <a:ext cx="0" cy="671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4521960" y="6043680"/>
              <a:ext cx="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10"/>
          <p:cNvSpPr/>
          <p:nvPr/>
        </p:nvSpPr>
        <p:spPr>
          <a:xfrm>
            <a:off x="82440" y="53172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ческая структура - след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50F9-46AD-4DB5-8C87-E72F1C3D0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1200" y="39672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алгоритма «след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AutoShape 5"/>
          <p:cNvCxnSpPr>
            <a:stCxn id="141" idx="2"/>
          </p:cNvCxnSpPr>
          <p:nvPr/>
        </p:nvCxnSpPr>
        <p:spPr>
          <a:xfrm flipH="1">
            <a:off x="4355280" y="2288880"/>
            <a:ext cx="18360" cy="370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AutoShape 6"/>
          <p:cNvSpPr/>
          <p:nvPr/>
        </p:nvSpPr>
        <p:spPr>
          <a:xfrm>
            <a:off x="2916360" y="1773360"/>
            <a:ext cx="2913120" cy="5158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2916360" y="2492280"/>
            <a:ext cx="2738160" cy="5288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2878200" y="6022800"/>
            <a:ext cx="2914560" cy="5162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76720" y="1844640"/>
            <a:ext cx="2116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059280" y="2565360"/>
            <a:ext cx="2593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Палата с ок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059280" y="3718080"/>
            <a:ext cx="2593800" cy="35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Открыть форт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3059280" y="4292640"/>
            <a:ext cx="259380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ождать 1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2759040" y="5276880"/>
            <a:ext cx="3191040" cy="527040"/>
            <a:chOff x="2759040" y="5276880"/>
            <a:chExt cx="3191040" cy="527040"/>
          </a:xfrm>
        </p:grpSpPr>
        <p:sp>
          <p:nvSpPr>
            <p:cNvPr id="149" name="AutoShape 14"/>
            <p:cNvSpPr/>
            <p:nvPr/>
          </p:nvSpPr>
          <p:spPr>
            <a:xfrm>
              <a:off x="2759040" y="5276880"/>
              <a:ext cx="3191040" cy="52704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3181320" y="5351400"/>
              <a:ext cx="2593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оветренная пала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6"/>
          <p:cNvSpPr/>
          <p:nvPr/>
        </p:nvSpPr>
        <p:spPr>
          <a:xfrm>
            <a:off x="3257640" y="6154560"/>
            <a:ext cx="21175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556000" y="3213000"/>
            <a:ext cx="37432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просить больных выйти на 1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749160" y="93996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горитм проветривания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3059280" y="4726080"/>
            <a:ext cx="2592360" cy="287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Закрыть форт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BEA1-8AF1-4087-9AAA-4DBA2FB55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" y="820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ое задание 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инструмент онлайн редактор блок-схем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programforyou.ru/block-diagram-redacto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словесный мет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линейный алгоритм с помощью бок-сх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3440" y="23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ение внутримышечной инъекц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мерение массы тела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бор анализов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E43A-8653-4E69-89A8-17F3AD8B3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" descr=""/>
          <p:cNvPicPr/>
          <p:nvPr/>
        </p:nvPicPr>
        <p:blipFill>
          <a:blip r:embed="rId5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4760" y="1604520"/>
            <a:ext cx="75168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этой команде исполнитель выбирает один из двух путей исполнения алгоритма с непременным выходом на общее продолжение. (Пример, собираясь в колледж, брать или не брать - зонтик зависит от погоды.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ный случай ветвления – обход (неполное ветвление) – в одной из ветвей нет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4265280"/>
            <a:ext cx="55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360600" y="4437000"/>
            <a:ext cx="1737000" cy="1239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68400" y="735120"/>
            <a:ext cx="8099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ческая структура – вет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D61F-9138-477E-A713-02CDBD071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1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167" name="Google Shape;78;p12" descr=""/>
          <p:cNvPicPr/>
          <p:nvPr/>
        </p:nvPicPr>
        <p:blipFill>
          <a:blip r:embed="rId3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4103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лное ветвл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248000" y="1699920"/>
            <a:ext cx="4896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полное ветвление (обхо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Group 7" descr=""/>
          <p:cNvPicPr/>
          <p:nvPr/>
        </p:nvPicPr>
        <p:blipFill>
          <a:blip r:embed="rId1"/>
          <a:stretch/>
        </p:blipFill>
        <p:spPr>
          <a:xfrm>
            <a:off x="360360" y="2341440"/>
            <a:ext cx="7819920" cy="4199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4"/>
          <p:cNvSpPr/>
          <p:nvPr/>
        </p:nvSpPr>
        <p:spPr>
          <a:xfrm>
            <a:off x="324000" y="752400"/>
            <a:ext cx="849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ческая структура -вет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4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D084-39CF-4207-9691-2AB34E11F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2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9680" y="5493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Алгоритм приема жаропонижающих таблеток в зависимости от температуры при простуд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1187280" y="1484280"/>
            <a:ext cx="6973560" cy="5111640"/>
            <a:chOff x="1187280" y="1484280"/>
            <a:chExt cx="6973560" cy="5111640"/>
          </a:xfrm>
        </p:grpSpPr>
        <p:cxnSp>
          <p:nvCxnSpPr>
            <p:cNvPr id="176" name="AutoShape 5"/>
            <p:cNvCxnSpPr/>
            <p:nvPr/>
          </p:nvCxnSpPr>
          <p:spPr>
            <a:xfrm>
              <a:off x="4710240" y="1746000"/>
              <a:ext cx="1080" cy="458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AutoShape 6"/>
            <p:cNvSpPr/>
            <p:nvPr/>
          </p:nvSpPr>
          <p:spPr>
            <a:xfrm>
              <a:off x="2327040" y="4141080"/>
              <a:ext cx="4692960" cy="948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3407760" y="1484280"/>
              <a:ext cx="2664720" cy="2620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начал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2786040" y="1941480"/>
              <a:ext cx="3908160" cy="38304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ростуженный человек, градусник, жаропонижающие таблет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9"/>
            <p:cNvSpPr/>
            <p:nvPr/>
          </p:nvSpPr>
          <p:spPr>
            <a:xfrm>
              <a:off x="3407760" y="2520000"/>
              <a:ext cx="2783160" cy="437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ставить градусник под мышку на 5 мину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407760" y="3172320"/>
              <a:ext cx="2783160" cy="28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Вынуть градусник и снять показ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3540960" y="3798000"/>
              <a:ext cx="2353680" cy="6793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Температура выше 38 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Calibri"/>
                  <a:ea typeface="SimSun"/>
                </a:rPr>
                <a:t>о </a:t>
              </a: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2"/>
            <p:cNvSpPr/>
            <p:nvPr/>
          </p:nvSpPr>
          <p:spPr>
            <a:xfrm>
              <a:off x="1187280" y="4605120"/>
              <a:ext cx="2220480" cy="335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Дать жаропонижающую таблетку и вызвать врач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2987280" y="5338080"/>
              <a:ext cx="3600360" cy="289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Соблюдать постельный режим несколько дн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2915280" y="5877000"/>
              <a:ext cx="3908520" cy="2487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Выздоровевший паци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3570480" y="6327000"/>
              <a:ext cx="2353680" cy="26892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коне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6072840" y="3945960"/>
              <a:ext cx="7102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5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2541960" y="3945960"/>
              <a:ext cx="7102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55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AutoShape 18"/>
            <p:cNvCxnSpPr/>
            <p:nvPr/>
          </p:nvCxnSpPr>
          <p:spPr>
            <a:xfrm flipH="1">
              <a:off x="2326680" y="4140720"/>
              <a:ext cx="326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AutoShape 19"/>
            <p:cNvCxnSpPr/>
            <p:nvPr/>
          </p:nvCxnSpPr>
          <p:spPr>
            <a:xfrm flipH="1">
              <a:off x="4709880" y="5088960"/>
              <a:ext cx="385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1" name="AutoShape 12"/>
            <p:cNvSpPr/>
            <p:nvPr/>
          </p:nvSpPr>
          <p:spPr>
            <a:xfrm>
              <a:off x="5940360" y="4581000"/>
              <a:ext cx="2220480" cy="335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Дать чай с малино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C57D-E9DA-4100-BC6C-DB88B7FE1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246240" y="7920"/>
            <a:ext cx="90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 алгоритма «ветвл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08000" y="1079280"/>
            <a:ext cx="91440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ое задание 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инструмен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гу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екстовом процессор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SWord 2007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словесный мет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разветвляющийся алгоритм с помощью бок-сх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я индекса массы тела (ИМТ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я пульс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5DFC-790F-418E-867B-2AC13968DA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1" descr=""/>
          <p:cNvPicPr/>
          <p:nvPr/>
        </p:nvPicPr>
        <p:blipFill>
          <a:blip r:embed="rId3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240" y="475920"/>
            <a:ext cx="74995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ктуальность 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79360" y="1244520"/>
            <a:ext cx="81248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 из основных понятий информатики и математики. Но понятие алгоритма применяется не только в этих дисциплинах. При решении любой ситуационной задачи необходимо сначала определить порядок ее решения, т.е. создать ее информационную модель в виде алгорит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построения информационных моделей с помощью формальных языков назы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ормализ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цессе обучения в колледже Вы учитесь делать различные медицинские манипуляции (инъекции, дезинфекцию и т. 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анном занятии Вы научитесь представлять эти манипуляции, формализовав их с помощью блок-схем (одним из способов представления алгоритм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BE2E-BEE5-4077-81F8-DEE6C8620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51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861920"/>
            <a:ext cx="81378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ик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команда исполнителю многократно повторить указанную последовательность команд. Цикл может быть организован двумя способами: цикл со счетчиком (действия, входящие в цикл, повторяются определенное количество раз) и цикл с услови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гмент алгоритма цикла со счетчик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льной должен принимать таблетки 7 дн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мер дня приема таблетки)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123640" y="3672000"/>
            <a:ext cx="3859560" cy="2852640"/>
            <a:chOff x="2123640" y="3672000"/>
            <a:chExt cx="3859560" cy="2852640"/>
          </a:xfrm>
        </p:grpSpPr>
        <p:grpSp>
          <p:nvGrpSpPr>
            <p:cNvPr id="200" name="Group 6"/>
            <p:cNvGrpSpPr/>
            <p:nvPr/>
          </p:nvGrpSpPr>
          <p:grpSpPr>
            <a:xfrm>
              <a:off x="2123640" y="4281480"/>
              <a:ext cx="3859560" cy="2243160"/>
              <a:chOff x="2123640" y="4281480"/>
              <a:chExt cx="3859560" cy="2243160"/>
            </a:xfrm>
          </p:grpSpPr>
          <p:sp>
            <p:nvSpPr>
              <p:cNvPr id="201" name="AutoShape 7"/>
              <p:cNvSpPr/>
              <p:nvPr/>
            </p:nvSpPr>
            <p:spPr>
              <a:xfrm>
                <a:off x="2810880" y="5525280"/>
                <a:ext cx="2397240" cy="75492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8"/>
              <p:cNvSpPr/>
              <p:nvPr/>
            </p:nvSpPr>
            <p:spPr>
              <a:xfrm>
                <a:off x="3351600" y="5769360"/>
                <a:ext cx="11458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n&gt;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Group 9"/>
              <p:cNvGrpSpPr/>
              <p:nvPr/>
            </p:nvGrpSpPr>
            <p:grpSpPr>
              <a:xfrm>
                <a:off x="2123640" y="4281480"/>
                <a:ext cx="3859560" cy="2243160"/>
                <a:chOff x="2123640" y="4281480"/>
                <a:chExt cx="3859560" cy="2243160"/>
              </a:xfrm>
            </p:grpSpPr>
            <p:cxnSp>
              <p:nvCxnSpPr>
                <p:cNvPr id="204" name="AutoShape 10"/>
                <p:cNvCxnSpPr/>
                <p:nvPr/>
              </p:nvCxnSpPr>
              <p:spPr>
                <a:xfrm flipV="1">
                  <a:off x="4024080" y="4281480"/>
                  <a:ext cx="1080" cy="1243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05" name="AutoShape 14"/>
                <p:cNvSpPr/>
                <p:nvPr/>
              </p:nvSpPr>
              <p:spPr>
                <a:xfrm>
                  <a:off x="2649960" y="4705560"/>
                  <a:ext cx="2674800" cy="4777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n:=n+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Принять таблетку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06" name="AutoShape 18"/>
                <p:cNvCxnSpPr/>
                <p:nvPr/>
              </p:nvCxnSpPr>
              <p:spPr>
                <a:xfrm>
                  <a:off x="5208120" y="5896800"/>
                  <a:ext cx="7754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07" name="AutoShape 20"/>
                <p:cNvCxnSpPr/>
                <p:nvPr/>
              </p:nvCxnSpPr>
              <p:spPr>
                <a:xfrm flipH="1">
                  <a:off x="4023720" y="4525560"/>
                  <a:ext cx="19594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8" name="AutoShape 21"/>
                <p:cNvCxnSpPr/>
                <p:nvPr/>
              </p:nvCxnSpPr>
              <p:spPr>
                <a:xfrm flipH="1">
                  <a:off x="2123640" y="5896800"/>
                  <a:ext cx="687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9" name="AutoShape 22"/>
                <p:cNvCxnSpPr/>
                <p:nvPr/>
              </p:nvCxnSpPr>
              <p:spPr>
                <a:xfrm>
                  <a:off x="2123640" y="5897160"/>
                  <a:ext cx="1080" cy="627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10" name="Text Box 23"/>
                <p:cNvSpPr/>
                <p:nvPr/>
              </p:nvSpPr>
              <p:spPr>
                <a:xfrm>
                  <a:off x="5227920" y="5525280"/>
                  <a:ext cx="7016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НЕ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4"/>
                <p:cNvSpPr/>
                <p:nvPr/>
              </p:nvSpPr>
              <p:spPr>
                <a:xfrm>
                  <a:off x="2401560" y="5525280"/>
                  <a:ext cx="7016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Д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12" name="AutoShape 26"/>
            <p:cNvCxnSpPr/>
            <p:nvPr/>
          </p:nvCxnSpPr>
          <p:spPr>
            <a:xfrm>
              <a:off x="3995640" y="3672000"/>
              <a:ext cx="1080" cy="39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3" name="Rectangle 27"/>
          <p:cNvSpPr/>
          <p:nvPr/>
        </p:nvSpPr>
        <p:spPr>
          <a:xfrm>
            <a:off x="2484360" y="540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0" y="18108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ческая структура - цик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7"/>
          <p:cNvSpPr/>
          <p:nvPr/>
        </p:nvSpPr>
        <p:spPr>
          <a:xfrm>
            <a:off x="2673360" y="4108320"/>
            <a:ext cx="2663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: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20"/>
          <p:cNvCxnSpPr/>
          <p:nvPr/>
        </p:nvCxnSpPr>
        <p:spPr>
          <a:xfrm flipH="1" flipV="1">
            <a:off x="5940000" y="4581000"/>
            <a:ext cx="15120" cy="13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EFB4-B990-46E6-A214-2951DE60E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Google Shape;78;p12" descr=""/>
          <p:cNvPicPr/>
          <p:nvPr/>
        </p:nvPicPr>
        <p:blipFill>
          <a:blip r:embed="rId1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49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рагмент алгоритма цикла с условием «Зачет по информатике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Сдаем зачет пока он не будет сд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6504-925F-4C1E-8639-E675584FA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2214720" y="1989000"/>
            <a:ext cx="4676760" cy="4019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206280" y="1319040"/>
            <a:ext cx="91440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ое задание 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инструмент онлайн редактор блок-схем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programforyou.ru/block-diagram-redacto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словесный мет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иклический алгоритм с помощью бок-сх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мывание желудка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75D-4ECA-4CDD-862D-E39D542F5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" descr=""/>
          <p:cNvPicPr/>
          <p:nvPr/>
        </p:nvPicPr>
        <p:blipFill>
          <a:blip r:embed="rId3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81080" y="826920"/>
            <a:ext cx="91440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ое задание 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ьте и запишите словесный алгоритм и постройте блок-схему по данному рисун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C1B8-3EB0-48E8-986E-EFDA31EA6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230" name="Изображение33" descr=""/>
          <p:cNvPicPr/>
          <p:nvPr/>
        </p:nvPicPr>
        <p:blipFill>
          <a:blip r:embed="rId2"/>
          <a:srcRect l="0" t="3488" r="0" b="4019"/>
          <a:stretch/>
        </p:blipFill>
        <p:spPr>
          <a:xfrm>
            <a:off x="1116000" y="2060640"/>
            <a:ext cx="7218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олни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йди по ссылке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learningapps.org/195530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3126-2771-477F-8FC0-131F758E0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235" name="Google Shape;78;p12" descr=""/>
          <p:cNvPicPr/>
          <p:nvPr/>
        </p:nvPicPr>
        <p:blipFill>
          <a:blip r:embed="rId3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6560" y="48888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тальная кар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4B1E-80A0-44A4-8754-1EEAFB517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020080" cy="56671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240" name="Google Shape;78;p12" descr=""/>
          <p:cNvPicPr/>
          <p:nvPr/>
        </p:nvPicPr>
        <p:blipFill>
          <a:blip r:embed="rId3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91440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ы для закрепления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42920" y="88272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из ниже перечисленных правил являются алгоритмам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) орфографические правила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 правила выполнения арифметических операци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правила техники безопасност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правила перевода из одной позиционной системы счисления в друг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базовые алгоритмические структуры существу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тип алгоритмической структуры необходимо применить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ь команд  должна быть выполнена определенное количество ра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ь команд выполняется или не выполняется в зависимости от усло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ь команд должна быть обязательно выполнена хотя бы один раз и должна повторяться до тех пор, пока условие справедли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C3C-9C5F-4596-A2FC-F4FCC17D0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4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48B8-4F95-4DB5-ACBC-0DD22C123C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3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248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"/>
          <p:cNvSpPr/>
          <p:nvPr/>
        </p:nvSpPr>
        <p:spPr>
          <a:xfrm>
            <a:off x="579600" y="1417680"/>
            <a:ext cx="788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нятии я работал(а) активно\пасси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й работой на занятии я доволен(ьна)\не доволен(ь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е для меня показался коротким\дли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нятии я не устал(а)\устал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 настроение стало лучше\стало ху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занятия мне был понятен\не поня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20" y="549000"/>
            <a:ext cx="91440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920" y="89208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кова М.С., Хлобыстова И. Ю. Информатика. – Москва: Издательский центр «Академия», 2020. – 352 с. ISBN 978-5-4468-8663-0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кова М.С., Хлобыстова И. Ю. Информатика. Практикум. – Москва: Издательский центр «Академия», 2020. – 240 с. ISBN 978-5-4468-9251-8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ельченко, В. П. Информационные технологии в профессиональной деятельности : учебник / В. П. Омельченко, А. А. Демидова. – ISBN 978-5-9704-5499-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жинина, И. В. Информационное обеспечение деятельности средних медицинских работников. Практикум : учебное пособие для СПО / И. В. Дружинина. — 5-е изд., стер. — Санкт-Петербург : Лань, 2023. — 208 с. — ISBN 978-5-507-46392-3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мачевская, С. Н. Информационные технологии в профессиональной деятельности медицинских работников : учебное пособие для СПО / С. Н. Обмачевская. — 4-е изд., стер. — Санкт-Петербург : Лань, 2023. — 184 с. — ISBN 978-5-507-45400-6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жинина, И. В. Информационные технологии в профессиональной деятельности средних медицинских работников : учебное пособие для СПО / И. В. Дружинина. — 7-е изд., стер. — Санкт-Петербург : Лань, 2023. — 112 с. — ISBN 978-5-507-46393-0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930D-EF86-491E-ABC2-98231BD21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-6480" y="44280"/>
            <a:ext cx="81248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4760" y="104724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алгорит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700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лгоритм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ных и понятных предписаний (команд) исполнителю совершить последовательность   действий, необходимых для решения любой  задачи данного тип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ошло от латинской формы имени среднеазиатского математика Аль-Хорезми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gorithmi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горитм — одно из основных понятий информатики и ма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BD19-8BFC-4ED9-8418-B6D026DC4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67760" y="390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57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01520" y="873000"/>
            <a:ext cx="90360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сполнитель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74520" y="1773360"/>
            <a:ext cx="91440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Исполнитель алгоритма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некоторая абстрактная или  реальная (техническая, биологическая или биотехническая) система, способная выполнить действия, предписываемые алгоритм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информатике универсальным исполнителем алгоритмов является …………….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омпьютер — автоматический исполнитель алгоритм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говорят, что компьютер исполняет программу (последовательность команд), реализующую алгорит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лгоритм, записанный на «понятном» компьютеру языке программирования, называется ………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C81-E431-433B-A25A-123AE430F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113760" y="4730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136440"/>
            <a:ext cx="81248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950760"/>
            <a:ext cx="746136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ойства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144720" y="2044800"/>
            <a:ext cx="84978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искретнос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деление информационного процесса в алгоритме на отдельные команды (последовательность простых шагов). Только выполнив одну команду, исполнитель может приступить к следующ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A020-C118-4EBB-9DD1-97BAEE7865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281880" y="4302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68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839520"/>
            <a:ext cx="746136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ойства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19440" y="1442520"/>
            <a:ext cx="812484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етерминируемость (определенность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команда должна быть однозначной (без произвольного толкования). Недопустима команда: «взять 2-3 ложки сахар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ись алгоритма должна быть такова, чтобы, выполнив очередную команду, исполнитель точно знал, какую команду необходимо исполнять следующ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33E6-2F64-4542-BE58-2EB31D35F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13760" y="3952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74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1023840"/>
            <a:ext cx="746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ойства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674360"/>
            <a:ext cx="79261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5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Конечность (результативность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должны быть определены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чаль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яние объекта и ег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еч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яние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пре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5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горитм должен обеспечивать преобразование объекта из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чальног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яния 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еч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нечн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шаг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6977-CD3B-4D19-BC06-3F85A000B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8600" y="3985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10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ойства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1760" y="2018880"/>
            <a:ext cx="794556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Массов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алгоритм должен решать не одну конкретную задачу, а весь класс задач данного тип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ак, при определении площади треугольника по формул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=(a*b)/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реугольник может быть любой, а не конкретный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7BFD-393B-4F69-995F-B14D275E5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5760" y="4046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86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1320" y="1125360"/>
            <a:ext cx="746136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особы записи алгоритм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8D3C-3874-4316-AF05-6D05F9041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5760" y="4111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3640" y="2012760"/>
            <a:ext cx="797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Алгоритмы можно записывать разными способ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— </a:t>
            </a: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на естественном язы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— </a:t>
            </a: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графически в виде блок-сх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— </a:t>
            </a: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в виде программы на каком-либо языке программир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92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8T05:31:20Z</dcterms:created>
  <dc:creator>Библиотека</dc:creator>
  <dc:description/>
  <dc:language>en-US</dc:language>
  <cp:lastModifiedBy>smk1</cp:lastModifiedBy>
  <dcterms:modified xsi:type="dcterms:W3CDTF">2024-11-16T05:49:52Z</dcterms:modified>
  <cp:revision>48</cp:revision>
  <dc:subject/>
  <dc:title>Формализация задач Алгоритмизация</dc:title>
</cp:coreProperties>
</file>